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1054-1768-48A3-B591-5F37957C9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Great notes on Wikip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883-1929-4956-8AA7-A17B6BDED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DC1-9C32-4E14-A41C-7B235878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F07-3C21-4D40-B7A2-BE0EC338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A2F-B3C3-43A4-A1BA-D0C9EF3F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9D6-7E1A-412C-91D8-AA4330B5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7D1-8911-4975-AD89-5E7B046E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ACF8-F00F-4036-94B3-0828CDE0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316-DFF3-46C5-85E4-61C4618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9C7-79DE-4829-B30D-8686EBB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27BE-E198-486C-B0B7-FB37C24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C3BD-EEF7-4AB5-B886-D440A45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9D9-E143-478E-8FD3-E93F7CC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353-8B89-40A9-908D-E0F62F35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E9AB-E787-4A68-A698-04C0A2E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5327-6013-4CCF-94F6-27BB2D4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2F8-CD30-4C94-B5B1-CF6C487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050F-5093-4507-AAA7-3CDB5FA3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036C-F347-477E-ADD5-F5E14483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03F9-5993-47F7-8B90-FD8F03E0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FB16-F31E-4BC8-B954-A545A539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92BB-D0C3-4FE1-AFDD-583BFCD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4361-C5A9-478A-B9B8-BB449F4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42A5-8C3B-4D92-899B-A384C47E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3B-659B-4903-B51B-68C3DF29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3912-ACA9-4387-858A-9F5E59B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F3F1-269B-4879-A744-9474243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31EC-B545-420C-BD15-3E647F88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E1D4-FF2F-4DD7-A498-2161623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1DC2-51AC-42DA-BD12-7BB0C84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9015-5576-499D-8941-3C21BC0E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19DC-BBA7-424A-8C87-1C80CA96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493E-AF9F-427E-A9F7-44EA54D9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AD93-F3F9-47EE-845D-854C263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2295-EBFF-49E6-95B0-86C668E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863-55E6-45ED-A8B1-F2BF53E9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0AE1-163A-4BD7-947D-A846AA5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AFFF-25E9-49E1-B960-1344BCFD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B89B-82BC-422B-81FD-459424DE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4F50-6E53-4103-8B2C-581DBC1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9BB7-C911-44D2-88A3-B497D60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BB6A-9990-47E7-A4B4-B30FD177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CE02-F7DD-47B3-AD33-180C91B7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C5BF-86EF-40A4-8AC0-673A598B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1EE9-ECEA-4CEC-A626-A06CEC42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32AE-53E1-446F-9C3D-C5F189E2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8CF-0D4B-4AD8-BFC0-FE075A1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F69E-55E9-4E3F-B6AC-05C99FBD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AE6E-C5D6-4D9A-ADF1-8285F62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CCF9-2D58-4E9D-A6DF-B90B9AE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6C778-EE00-4796-A03D-89DAA056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CE1D-BF04-45A6-AEBD-23E2FB8A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ABE7-34A9-485E-85FB-E3576B9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A2D7-AF64-4EF0-BD35-5CD6F30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793F-9699-43BD-88B6-CD0B36E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2852C-A2D7-42B7-AD80-0B332AF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177A-B6DC-4F96-9FF7-FED67842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CA7-EDB1-427E-88F2-7CB1BB7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E603-9FBA-49CD-89B3-43EC2F61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FE40-674C-4E72-BD79-C2D6CCDB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540F-51D3-4510-8080-A8C391E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D378C-AD5D-40F8-BCEB-FD300E3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407E-C406-493C-8E69-01720770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C801-BDEE-4062-A0E1-3CB9611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1EFA-FF97-4DA6-93D6-8F015972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77EF-CABF-4978-BFB0-716F9D9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9A67-AB1C-4945-8D25-3E6E621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13CE-46FB-41B6-A7A6-B215FBA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32E-973F-404A-8B75-BAD9E18B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1F85-FDAD-4443-9A35-3632A76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37B89-4266-4E80-8A61-5ACDBECC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C9B3-193E-41A3-83C3-4E63F0DD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D915-9591-4775-AAAA-8C283FC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923D5-A4D4-477C-9B2E-CA7F422C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8912C-9E17-473C-A61A-DAD9DAD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C9AA-C502-4D04-9316-D2FA1E8F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33A4E-3015-4B94-BC31-6B416B1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EA04B-E9F0-472E-9611-0B3E1360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2849-4D39-4B73-BDDA-B604D0A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863-CFBE-4149-B7A7-9CD6EAB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7C9CB-5D00-4A2E-AECF-A88EBC3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3C5C-4381-4F8E-93D9-C6A62D8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D58E-D4E6-47C2-9DC8-BE88DFD7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55FD-EBB2-412E-9053-39371A9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C4B3-60F8-4D9E-9E28-1D52BC36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BB6B0-9E1B-4EB8-A2F7-1F567DB1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B2EB-3873-467A-A849-91EDDE2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F45D-1BFD-481E-8EDF-69E7A026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E9B5-ED6D-4F61-B139-48E7E15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54CF-5353-43C6-8065-B1F75C2A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45B-2767-4D2F-A473-0101594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C18E-7AF0-4F86-A4C0-CD45158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62A3-FBC1-4098-A955-9DFF131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14BC-94D1-4CBA-A9BB-044167DF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9232-C8B6-451B-9CD8-212056B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D27D-16EB-4B01-A881-2797C5A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A0502-7ED9-4827-B925-96274D99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023B3-59EF-475E-A107-4225808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4DD-E0C7-4C5D-A260-28EFB6ADBBF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8F78-7A4E-4F49-812A-5664D2C08AD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618-AF46-4CCC-8F2A-13C162B47CE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F8C-4D2B-4AF2-9B9A-3DC117F8854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872-DE6F-4E42-9D9C-D3A32277E4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1E44-A033-4A39-98C4-E0A99E4920B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C657-B9F2-41A4-A92D-E3CCA5C7583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FA1-2005-4548-9815-518B651524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ookman Old Style"/>
              </a:rPr>
              <a:t>Cyber Terroris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464653"/>
                </a:solidFill>
                <a:latin typeface="Bookman Old Style"/>
              </a:rPr>
              <a:t>Rain Ot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rai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Manuals, videos etc. available 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sychological ope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Attacks that cause little or no damage in physical sense, but are widely felt among the population, thus causing fear and uncertain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apitalising on the attention of the mass med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Cyber attacks againd infra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No publicly known large impact cyber terrorist attacks to dat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... but the potential is t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US experiment to remotely disable a power generato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SCADA systems may be linked to the Interne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Group 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What is Cyber Terror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otential terrorist uses of Inter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urpo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To give the students a better overview of (potential) terrorist uses of cyber sp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What is Cyber Terroris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ractical exercise for grou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Define cyber terroris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erroris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erroris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the systematic use of </a:t>
            </a: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terror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pecially as a means of coerc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No universal defin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Extent of the threat – death, destruction, fear ..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an states be considered terroris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Goal – political, religious, economic, ecologic 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Targeting civilia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Disguis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errorists on the Internet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ractical exercise for grou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hat are the potential terrorist uses for Internet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ropaga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Spreading your message on websites, forums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Using spam and defacement atta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apitalizing on the attention of the mass med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Command and Contro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overt communication channel using publicly available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ha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E-mai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Foru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ebsi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Recruiting and fundrai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Ove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eb portals, forums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ove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ooperation with the criminal underworl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Blackmailing, extortion, theft etc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44:35Z</dcterms:created>
  <dc:creator>rain</dc:creator>
  <dc:description/>
  <dc:language>en-US</dc:language>
  <cp:lastModifiedBy>rain</cp:lastModifiedBy>
  <dcterms:modified xsi:type="dcterms:W3CDTF">2008-10-17T13:12:21Z</dcterms:modified>
  <cp:revision>8</cp:revision>
  <dc:subject/>
  <dc:title>Cyber Terrorism</dc:title>
</cp:coreProperties>
</file>